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321-EFE2-4C07-BC3E-1581B5ED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D2C-1E46-489B-8D34-242F5DBB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B59-D82B-44E1-BF80-B200A93B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B64-C4A8-420E-957F-B641BDC2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0C17-C946-4184-83BA-0B7F2E27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F8C9-C332-48D1-BD0A-FEF5E036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E9C4-5B01-42AD-BBCB-6C646143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965A-08F8-4B8B-A775-7436C8F5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77A7-DCB5-4189-9D94-C89308F6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9368-AE85-40E9-AFFB-F0875762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70C9-DF4D-4F16-8224-D018A2CC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3E1-F21C-4F54-9CD2-0061BDFC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A36D-00C3-4BE0-BF97-CC32FEBD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CA09-219B-4A6B-91F4-E87EC92A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68F1-FB28-4369-AF0C-80A937F3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87FF-ADBF-41A3-B140-1EEB5AAB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92C0-E1D0-4614-8F17-DA007059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8A3AD-9E8C-4A71-A3FF-799450D5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7BB7-CB06-4662-8756-5F9C3E8F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47AB-505A-4D1C-AD19-576C4FDB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883F-7AD2-4831-810C-BD5A434A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9A8C0-EB1D-45F9-AF2D-86A84CC3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5F2-060B-47A9-B182-34C91ED4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03AA-EC03-4242-98EF-1E35EB19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26CBF-6E56-4B7C-A33C-655539EA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E98D-C27E-4E94-9627-F1627D4D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91185-9157-4C75-BDEF-6A9D3202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9B4E-C9DC-4B0C-9468-F7526C7D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8CD8-C372-4DA0-9A39-C886C5F4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A9F6-2135-4708-AE9C-58629469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0F64D-5F13-477F-8460-1C450AA0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08C0C-1AD3-47E4-8A58-F9D9F811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A841-D681-4419-B4B5-9D08A0B9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336-5FE0-4165-9AB4-FB8B5016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93250-41A4-4396-B3B5-3EDBA338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79C68-5C33-48A3-ABEE-F0AAECA7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62F89-7CCC-40A6-8434-7DA5E89F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0BE4E-72D0-47C2-BE64-EAF74315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75621-76D0-4C83-857C-0C5EDC64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1DD1-167E-46FC-9742-342A7D0A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77DD-FCDC-455D-8ED0-CBF22D11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2752F-5FF9-47C8-9A0C-E758C31D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F3B40-A79A-4488-9629-3A8F93D8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71FC3-83B1-461A-BEB1-8EE2BDAA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C31-BA1B-4E55-A2D0-87D21FF8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9803C-3B6A-4CB9-870E-E557E7D0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07F7B-44D8-487A-A32F-D2787C74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49380-1678-4DAA-9A47-62FCC3FC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F7492-A276-4DB3-B3C0-A338B56E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C0EA8-5C32-4D78-A986-90720D40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3D1C7-B3D4-4CAB-AA28-49A7D3AE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C5C4A-C456-41DB-ADF6-A050421A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1044F-B989-4644-A586-4D0DC615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46955-24D1-47B8-B2D3-6A9D11C2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BB53C-5AD1-4418-9899-92B3CEEB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9D2-F5FE-4AF5-BD4C-FE44248A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7DB1F-C764-4D04-875D-646A18DB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AD129-12C7-4383-A19A-93E46170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EA775-A739-45BA-A7C8-1811C65A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B3466-3898-4D69-9625-B62D78AD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1D349-1803-4EE7-BE56-4F42B9C9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1CE36-FA9F-4516-9716-D23B53DC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3E7CD-C482-49C6-9D34-EA2A2F2A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41DE2-332B-4DB7-B08E-617F697D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6D104-CF82-4413-AD6E-807C75DD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5310F-91E7-462C-B82E-143F7D63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756-2A00-4FD6-B85A-65A8C74C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5E3C7-9EDC-45AB-9018-34DDC4F5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CCB3D-4439-47A1-A04A-3A5FD278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56245-37B6-461E-B4E6-911CFDD7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5C1F7-5A7A-4C69-BFA7-907F88A5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A5E8E-AC1F-460B-9027-7D8F1A41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23C94-FD2F-4BA3-8B64-DEA6637F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4B7A3-8FAF-4134-86B3-737F4077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0C492-CC40-4565-BE32-F3FF8361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471D3-70DB-43C2-9B86-1283AD85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7ED8F-B412-4E90-9890-88A922C6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539-222B-4448-97A5-E358AE5A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F11BA-9EB8-46BF-AC13-CA55DB38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7A65A-1403-4ED2-9681-7BB1D87E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F4A25-3525-4592-B37E-A514A43E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0738E-8EBA-483E-9B78-019AA393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C0EAA-B065-40A3-93A7-46134003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B1B-7529-4E97-9746-C54CFB2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6CB3-B9B9-41BB-A5A0-F6428C974B9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FC0B-1392-4D8C-A867-CDB33E95244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9658-C2CC-436B-876D-536CB8A8780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53BF-FF0B-4812-882D-A492B78F830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F668-5DA5-4596-B09F-4E4191D9147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0B2D-5D1F-455D-A250-113FFA63F8B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7E15-D8EA-4238-B35C-861B27DDF89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3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rown Elementary sold tickets to their school carnival.  They sold 136 tickets to the cakewalk, 159 tickets to the beanbag throw and 98 tickets to the pie-throwing contest.  The carnival started at 6:00 P.M. and closed 3 hours later.  A total of 321 people attended the carniv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obert’s family bought 14 tickets at school the day before the carnival.  They bought another 28 tickets at the carnival.  They had 6 tickets left over after the carniv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228600" y="15238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is a good estimate of the total number of tickets sold at the carnival for the cakewalk, beanbag throw and pie-throwing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many tickets in all did Robert’s family use at the carnival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152280" y="15235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cakewalk tickets were sold 1 to a person, how many people that attended the carnival did not buy a ticket for the cakewalk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523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many more tickets were sold for the cakewalk than the pie-throwing contes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523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167 of the people who went to the carnival were students, how many were not student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3:53:13Z</dcterms:created>
  <dc:creator> </dc:creator>
  <dc:description/>
  <dc:language>en-US</dc:language>
  <cp:lastModifiedBy>127partidak</cp:lastModifiedBy>
  <dcterms:modified xsi:type="dcterms:W3CDTF">2011-09-30T22:22:25Z</dcterms:modified>
  <cp:revision>4</cp:revision>
  <dc:subject/>
  <dc:title>Information</dc:title>
</cp:coreProperties>
</file>